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17.wmf" ContentType="image/x-wmf"/>
  <Override PartName="/ppt/media/image37.wmf" ContentType="image/x-wmf"/>
  <Override PartName="/ppt/media/image38.png" ContentType="image/png"/>
  <Override PartName="/ppt/media/image8.wmf" ContentType="image/x-wmf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jpeg" ContentType="image/jpeg"/>
  <Override PartName="/ppt/media/image3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4.png" ContentType="image/png"/>
  <Override PartName="/ppt/media/image45.png" ContentType="image/png"/>
  <Override PartName="/ppt/media/image46.wmf" ContentType="image/x-wmf"/>
  <Override PartName="/ppt/media/image47.wmf" ContentType="image/x-wmf"/>
  <Override PartName="/ppt/media/image12.png" ContentType="image/png"/>
  <Override PartName="/ppt/media/image36.wmf" ContentType="image/x-wmf"/>
  <Override PartName="/ppt/media/image6.wmf" ContentType="image/x-wmf"/>
  <Override PartName="/ppt/media/image48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E46E101-F3AB-4A8D-A989-7FE8F863D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1D8FFAE-8036-408B-9404-F13A73DFB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79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cking Compliance for Business Processes Based on URN CASCON Workshop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jucmnav.softwareengineering.ca/twiki/bin/view/ProjetSEG/KPIDemo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5181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usiness Process Modeling, Analysis and Monitoring with URN, jUCMNav and Cognos 8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5181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Alireza Pourshah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ngfei 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niel Amy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hael We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am Pey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ASCON  Workshop, October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0" y="1630440"/>
            <a:ext cx="5662440" cy="408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5486400" y="587520"/>
            <a:ext cx="3581280" cy="2666880"/>
          </a:xfrm>
          <a:prstGeom prst="rect">
            <a:avLst/>
          </a:prstGeom>
          <a:ln w="0">
            <a:noFill/>
          </a:ln>
        </p:spPr>
      </p:pic>
      <p:sp>
        <p:nvSpPr>
          <p:cNvPr id="130" name="Oval 14"/>
          <p:cNvSpPr/>
          <p:nvPr/>
        </p:nvSpPr>
        <p:spPr>
          <a:xfrm>
            <a:off x="5715000" y="2568600"/>
            <a:ext cx="2362320" cy="838080"/>
          </a:xfrm>
          <a:prstGeom prst="ellipse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22860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0E19DDFF-016D-497D-9CDB-9DE02145C8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833 -0.15556 L 0 1.11111E-006 E">
                                      <p:cBhvr>
                                        <p:cTn id="4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920" y="542304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siness Process Modelling, Analysis and Monitoring with URN, jUCMNav and Cognos 8  - </a:t>
            </a: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CASCON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139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4213080" y="2070000"/>
          <a:ext cx="454500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3080" y="2070000"/>
                    <a:ext cx="454500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7"/>
          <p:cNvSpPr/>
          <p:nvPr/>
        </p:nvSpPr>
        <p:spPr>
          <a:xfrm>
            <a:off x="0" y="188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228600" y="3365640"/>
          <a:ext cx="389088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365640"/>
                    <a:ext cx="389088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15"/>
          <p:cNvSpPr/>
          <p:nvPr/>
        </p:nvSpPr>
        <p:spPr>
          <a:xfrm>
            <a:off x="2080800" y="2538360"/>
            <a:ext cx="27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Hierarch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7" descr=""/>
          <p:cNvPicPr/>
          <p:nvPr/>
        </p:nvPicPr>
        <p:blipFill>
          <a:blip r:embed="rId5"/>
          <a:stretch/>
        </p:blipFill>
        <p:spPr>
          <a:xfrm>
            <a:off x="4876920" y="838080"/>
            <a:ext cx="1633320" cy="119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6"/>
          <a:stretch/>
        </p:blipFill>
        <p:spPr>
          <a:xfrm>
            <a:off x="258840" y="1076400"/>
            <a:ext cx="3184560" cy="1168200"/>
          </a:xfrm>
          <a:prstGeom prst="rect">
            <a:avLst/>
          </a:prstGeom>
          <a:ln w="0">
            <a:noFill/>
          </a:ln>
        </p:spPr>
      </p:pic>
      <p:sp>
        <p:nvSpPr>
          <p:cNvPr id="144" name="Line 10"/>
          <p:cNvSpPr/>
          <p:nvPr/>
        </p:nvSpPr>
        <p:spPr>
          <a:xfrm flipH="1">
            <a:off x="1805040" y="1886040"/>
            <a:ext cx="728640" cy="1643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5486400" y="1981080"/>
            <a:ext cx="1120680" cy="163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Straight Arrow Connector 26"/>
          <p:cNvCxnSpPr/>
          <p:nvPr/>
        </p:nvCxnSpPr>
        <p:spPr>
          <a:xfrm flipH="1" flipV="1">
            <a:off x="1066320" y="4050720"/>
            <a:ext cx="3658320" cy="14482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7" name="Straight Arrow Connector 28"/>
          <p:cNvCxnSpPr/>
          <p:nvPr/>
        </p:nvCxnSpPr>
        <p:spPr>
          <a:xfrm flipH="1" flipV="1">
            <a:off x="1904760" y="4050720"/>
            <a:ext cx="4343760" cy="14482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sp>
        <p:nvSpPr>
          <p:cNvPr id="148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675DEE85-3FDA-4306-8E64-5FB88940F4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 Black"/>
                <a:ea typeface="宋体"/>
              </a:rPr>
              <a:t>KPI model in URN</a:t>
            </a:r>
            <a:endParaRPr b="0" lang="en-US" sz="22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2133720" y="2252520"/>
          <a:ext cx="42735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52520"/>
                    <a:ext cx="42735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6"/>
          <p:cNvSpPr/>
          <p:nvPr/>
        </p:nvSpPr>
        <p:spPr>
          <a:xfrm>
            <a:off x="2643120" y="1752480"/>
            <a:ext cx="3276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RN       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3662280" y="1351080"/>
            <a:ext cx="0" cy="3795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B0C30A92-5722-40D9-9E09-AAE977BBA4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Extending URN Meta-model for Performance Monitoring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609480" y="1066680"/>
            <a:ext cx="7848720" cy="4800600"/>
            <a:chOff x="609480" y="1066680"/>
            <a:chExt cx="7848720" cy="4800600"/>
          </a:xfrm>
        </p:grpSpPr>
        <p:graphicFrame>
          <p:nvGraphicFramePr>
            <p:cNvPr id="161" name="Object 2"/>
            <p:cNvGraphicFramePr/>
            <p:nvPr/>
          </p:nvGraphicFramePr>
          <p:xfrm>
            <a:off x="609480" y="1066680"/>
            <a:ext cx="5196600" cy="383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066680"/>
                      <a:ext cx="5196600" cy="383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3"/>
            <p:cNvGraphicFramePr/>
            <p:nvPr/>
          </p:nvGraphicFramePr>
          <p:xfrm>
            <a:off x="3994920" y="1694880"/>
            <a:ext cx="4463280" cy="417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94920" y="1694880"/>
                      <a:ext cx="4463280" cy="417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7CC82845-BE95-481D-AAF6-494CBCF291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Extending URN Meta-model for Performance Monitoring (Cont.)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533520" y="1219320"/>
          <a:ext cx="747396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47396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42E48662-C264-40BB-BC53-A60B4853F1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cxnSp>
        <p:nvCxnSpPr>
          <p:cNvPr id="173" name="Straight Arrow Connector 6"/>
          <p:cNvCxnSpPr/>
          <p:nvPr/>
        </p:nvCxnSpPr>
        <p:spPr>
          <a:xfrm flipH="1" flipV="1">
            <a:off x="4974480" y="1794600"/>
            <a:ext cx="1121400" cy="108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74" name="TextBox 7" descr=""/>
          <p:cNvPicPr/>
          <p:nvPr/>
        </p:nvPicPr>
        <p:blipFill>
          <a:blip r:embed="rId2"/>
          <a:stretch/>
        </p:blipFill>
        <p:spPr>
          <a:xfrm>
            <a:off x="6046920" y="1530360"/>
            <a:ext cx="877680" cy="46368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8"/>
          <p:cNvCxnSpPr/>
          <p:nvPr/>
        </p:nvCxnSpPr>
        <p:spPr>
          <a:xfrm flipH="1" flipV="1">
            <a:off x="3504600" y="696240"/>
            <a:ext cx="1121400" cy="108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76" name="TextBox 9" descr=""/>
          <p:cNvPicPr/>
          <p:nvPr/>
        </p:nvPicPr>
        <p:blipFill>
          <a:blip r:embed="rId3"/>
          <a:stretch/>
        </p:blipFill>
        <p:spPr>
          <a:xfrm>
            <a:off x="4206960" y="433440"/>
            <a:ext cx="2230200" cy="461880"/>
          </a:xfrm>
          <a:prstGeom prst="rect">
            <a:avLst/>
          </a:prstGeom>
          <a:ln w="0">
            <a:noFill/>
          </a:ln>
        </p:spPr>
      </p:pic>
      <p:cxnSp>
        <p:nvCxnSpPr>
          <p:cNvPr id="177" name="Straight Arrow Connector 11"/>
          <p:cNvCxnSpPr/>
          <p:nvPr/>
        </p:nvCxnSpPr>
        <p:spPr>
          <a:xfrm flipH="1">
            <a:off x="5420880" y="2557440"/>
            <a:ext cx="294480" cy="32760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78" name="TextBox 12" descr=""/>
          <p:cNvPicPr/>
          <p:nvPr/>
        </p:nvPicPr>
        <p:blipFill>
          <a:blip r:embed="rId4"/>
          <a:stretch/>
        </p:blipFill>
        <p:spPr>
          <a:xfrm>
            <a:off x="4595760" y="2109960"/>
            <a:ext cx="3316320" cy="828360"/>
          </a:xfrm>
          <a:prstGeom prst="rect">
            <a:avLst/>
          </a:prstGeom>
          <a:ln w="0">
            <a:noFill/>
          </a:ln>
        </p:spPr>
      </p:pic>
      <p:cxnSp>
        <p:nvCxnSpPr>
          <p:cNvPr id="179" name="Straight Arrow Connector 18"/>
          <p:cNvCxnSpPr/>
          <p:nvPr/>
        </p:nvCxnSpPr>
        <p:spPr>
          <a:xfrm>
            <a:off x="739800" y="2252520"/>
            <a:ext cx="660600" cy="27828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80" name="TextBox 19" descr=""/>
          <p:cNvPicPr/>
          <p:nvPr/>
        </p:nvPicPr>
        <p:blipFill>
          <a:blip r:embed="rId5"/>
          <a:stretch/>
        </p:blipFill>
        <p:spPr>
          <a:xfrm>
            <a:off x="-23760" y="542880"/>
            <a:ext cx="828720" cy="328608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 13" descr=""/>
          <p:cNvPicPr/>
          <p:nvPr/>
        </p:nvPicPr>
        <p:blipFill>
          <a:blip r:embed="rId6"/>
          <a:stretch/>
        </p:blipFill>
        <p:spPr>
          <a:xfrm>
            <a:off x="6016680" y="4297320"/>
            <a:ext cx="2614680" cy="463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4"/>
          <p:cNvSpPr/>
          <p:nvPr/>
        </p:nvSpPr>
        <p:spPr>
          <a:xfrm>
            <a:off x="2895480" y="4081320"/>
            <a:ext cx="2819520" cy="838440"/>
          </a:xfrm>
          <a:prstGeom prst="rect">
            <a:avLst/>
          </a:prstGeom>
          <a:solidFill>
            <a:srgbClr val="00cc99">
              <a:alpha val="23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76320" y="4572000"/>
            <a:ext cx="1828800" cy="533520"/>
          </a:xfrm>
          <a:prstGeom prst="rect">
            <a:avLst/>
          </a:prstGeom>
          <a:solidFill>
            <a:srgbClr val="00cc99">
              <a:alpha val="23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TextBox 16" descr=""/>
          <p:cNvPicPr/>
          <p:nvPr/>
        </p:nvPicPr>
        <p:blipFill>
          <a:blip r:embed="rId7"/>
          <a:stretch/>
        </p:blipFill>
        <p:spPr>
          <a:xfrm>
            <a:off x="225360" y="5516640"/>
            <a:ext cx="16956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Architecture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Object 2"/>
          <p:cNvGraphicFramePr/>
          <p:nvPr/>
        </p:nvGraphicFramePr>
        <p:xfrm>
          <a:off x="3551400" y="152280"/>
          <a:ext cx="54212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1400" y="152280"/>
                    <a:ext cx="54212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Box 13"/>
          <p:cNvSpPr/>
          <p:nvPr/>
        </p:nvSpPr>
        <p:spPr>
          <a:xfrm>
            <a:off x="304920" y="1295280"/>
            <a:ext cx="2743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really depends on what we want and what are the data sources we need to u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can simply start only with jUCMNav and initialize the values manual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can only use a simple relational data source and generate our Dimensional Data sources from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RAAS we might be able to omit the monitoring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FAE2EF1C-9A58-422F-98AD-AD052341813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Demo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er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jucmnav.softwareengineering.ca/twiki/bin/view/ProjetSEG/KPIDe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A632C849-57B7-4867-94A6-E9BC5F404E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 Black"/>
                <a:ea typeface="宋体"/>
              </a:rPr>
              <a:t>Future work – Process Redesign</a:t>
            </a:r>
            <a:endParaRPr b="0" lang="en-US" sz="2600" spc="-1" strike="noStrike">
              <a:solidFill>
                <a:srgbClr val="99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292400" y="1066680"/>
          <a:ext cx="3125520" cy="4572000"/>
        </p:xfrm>
        <a:graphic>
          <a:graphicData uri="http://schemas.openxmlformats.org/drawingml/2006/table">
            <a:tbl>
              <a:tblPr/>
              <a:tblGrid>
                <a:gridCol w="1093680"/>
                <a:gridCol w="430200"/>
                <a:gridCol w="401760"/>
                <a:gridCol w="539640"/>
                <a:gridCol w="660240"/>
              </a:tblGrid>
              <a:tr h="21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design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u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lexi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</a:tr>
              <a:tr h="22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Elimin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Compo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Autom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outing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sequenc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Knock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ntrol Relo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rallelis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i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llocation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 Manag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 Assig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ustomer Tea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lexible Assig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sourc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entraliz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plit Responsibiliti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572000" y="1066680"/>
          <a:ext cx="3075120" cy="4695840"/>
        </p:xfrm>
        <a:graphic>
          <a:graphicData uri="http://schemas.openxmlformats.org/drawingml/2006/table">
            <a:tbl>
              <a:tblPr/>
              <a:tblGrid>
                <a:gridCol w="1093680"/>
                <a:gridCol w="419040"/>
                <a:gridCol w="362160"/>
                <a:gridCol w="539640"/>
                <a:gridCol w="660600"/>
              </a:tblGrid>
              <a:tr h="21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source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umerical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volv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xtra Re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pecialist-General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eneralist-Special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mpow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xternal Party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g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utsourc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rfac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ntact Redu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uffer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usted Par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gral Business Process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 Typ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chnolo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xcep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-based Wor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2112"/>
          <p:cNvSpPr/>
          <p:nvPr/>
        </p:nvSpPr>
        <p:spPr>
          <a:xfrm>
            <a:off x="0" y="66438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Reference: H. A. Reijers, Process-Aware Information Systems. John Wiley &amp; Sons. Inc.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F9C70182-E890-4F4E-891F-A463050B0E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36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Scenario-based process analysi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3657600" y="1066680"/>
          <a:ext cx="411480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066680"/>
                    <a:ext cx="411480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Box 4"/>
          <p:cNvSpPr/>
          <p:nvPr/>
        </p:nvSpPr>
        <p:spPr>
          <a:xfrm>
            <a:off x="380880" y="1295280"/>
            <a:ext cx="269244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only a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scenario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rocess we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ed 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the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imp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highlighted part of the process on the related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business go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74ED806B-52B6-40C1-9150-FFAB043A27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BPM Life Cycle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4518" t="2850" r="5476" b="2507"/>
          <a:stretch/>
        </p:blipFill>
        <p:spPr>
          <a:xfrm>
            <a:off x="2459160" y="1371600"/>
            <a:ext cx="3941640" cy="386064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D967BE93-AA23-4FB6-99EC-E79AC41F68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cess portfolio analysi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06" name="Picture 4" descr="Drill.png"/>
          <p:cNvPicPr/>
          <p:nvPr/>
        </p:nvPicPr>
        <p:blipFill>
          <a:blip r:embed="rId1"/>
          <a:stretch/>
        </p:blipFill>
        <p:spPr>
          <a:xfrm>
            <a:off x="2895480" y="838080"/>
            <a:ext cx="5037120" cy="42292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"/>
          <p:cNvSpPr/>
          <p:nvPr/>
        </p:nvSpPr>
        <p:spPr>
          <a:xfrm>
            <a:off x="0" y="3276720"/>
            <a:ext cx="2895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cc99"/>
                </a:solidFill>
                <a:latin typeface="Times New Roman"/>
              </a:rPr>
              <a:t>Importance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value is the average satisfaction level of the top-level business goals when a process performs at its 100%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50760" y="1828800"/>
            <a:ext cx="276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cc99"/>
                </a:solidFill>
                <a:latin typeface="Times New Roman"/>
              </a:rPr>
              <a:t>Performance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value is computed from the performa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Down Arrow 11"/>
          <p:cNvSpPr/>
          <p:nvPr/>
        </p:nvSpPr>
        <p:spPr>
          <a:xfrm>
            <a:off x="8712360" y="1295280"/>
            <a:ext cx="279360" cy="30481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12"/>
          <p:cNvSpPr/>
          <p:nvPr/>
        </p:nvSpPr>
        <p:spPr>
          <a:xfrm rot="5400000">
            <a:off x="6756120" y="2327400"/>
            <a:ext cx="29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ll down to find the root of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CEE59482-04D4-4A6C-B182-A59B0D45EE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Suggested Steps for the methodology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5278680" cy="4863960"/>
          </a:xfrm>
          <a:prstGeom prst="rect">
            <a:avLst/>
          </a:prstGeom>
          <a:ln w="0">
            <a:noFill/>
          </a:ln>
        </p:spPr>
      </p:pic>
      <p:pic>
        <p:nvPicPr>
          <p:cNvPr id="214" name="Diagram 5" descr=""/>
          <p:cNvPicPr/>
          <p:nvPr/>
        </p:nvPicPr>
        <p:blipFill>
          <a:blip r:embed="rId2"/>
          <a:stretch/>
        </p:blipFill>
        <p:spPr>
          <a:xfrm>
            <a:off x="5376960" y="2097000"/>
            <a:ext cx="2908080" cy="309744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1EA5D769-F999-4A45-97C8-1B827E05E3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 Black"/>
              </a:rPr>
              <a:t>Suggested Steps for the methodology</a:t>
            </a:r>
            <a:endParaRPr b="0" lang="en-US" sz="25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Table 7" descr=""/>
          <p:cNvPicPr/>
          <p:nvPr/>
        </p:nvPicPr>
        <p:blipFill>
          <a:blip r:embed="rId1"/>
          <a:stretch/>
        </p:blipFill>
        <p:spPr>
          <a:xfrm>
            <a:off x="311040" y="615960"/>
            <a:ext cx="8601120" cy="5261040"/>
          </a:xfrm>
          <a:prstGeom prst="rect">
            <a:avLst/>
          </a:prstGeom>
          <a:ln w="0">
            <a:noFill/>
          </a:ln>
        </p:spPr>
      </p:pic>
      <p:sp>
        <p:nvSpPr>
          <p:cNvPr id="219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366DBBA6-8001-4CA3-9052-44867640E14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Approval proces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2"/>
          <p:cNvGraphicFramePr/>
          <p:nvPr/>
        </p:nvGraphicFramePr>
        <p:xfrm>
          <a:off x="76320" y="914400"/>
          <a:ext cx="297792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14400"/>
                    <a:ext cx="297792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Object 3"/>
          <p:cNvGraphicFramePr/>
          <p:nvPr/>
        </p:nvGraphicFramePr>
        <p:xfrm>
          <a:off x="6324480" y="533520"/>
          <a:ext cx="2743200" cy="51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533520"/>
                    <a:ext cx="274320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2971800" y="619200"/>
          <a:ext cx="3392640" cy="50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19200"/>
                    <a:ext cx="339264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TextBox 9"/>
          <p:cNvSpPr/>
          <p:nvPr/>
        </p:nvSpPr>
        <p:spPr>
          <a:xfrm>
            <a:off x="700560" y="54864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10"/>
          <p:cNvSpPr/>
          <p:nvPr/>
        </p:nvSpPr>
        <p:spPr>
          <a:xfrm>
            <a:off x="3613320" y="54864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11"/>
          <p:cNvSpPr/>
          <p:nvPr/>
        </p:nvSpPr>
        <p:spPr>
          <a:xfrm>
            <a:off x="6679440" y="549756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69BBC005-BF6D-40E4-8B8F-2F66E00F06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" descr="C:\Documents and Settings\damyot.damyotlap\My Documents\uo\papers\2008\MCeTech08\BPM\jUCMNav-KPI.png"/>
          <p:cNvPicPr/>
          <p:nvPr/>
        </p:nvPicPr>
        <p:blipFill>
          <a:blip r:embed="rId1"/>
          <a:stretch/>
        </p:blipFill>
        <p:spPr>
          <a:xfrm>
            <a:off x="0" y="0"/>
            <a:ext cx="9136080" cy="65023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3843360" y="5475240"/>
            <a:ext cx="16095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633680" y="5464080"/>
            <a:ext cx="16095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503440" y="2416320"/>
            <a:ext cx="1611360" cy="5220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6781680" y="6129360"/>
            <a:ext cx="16113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PI 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651720" y="5051520"/>
            <a:ext cx="16113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PIs Det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52280" y="4811760"/>
            <a:ext cx="112104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Technical Review sub-proces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43" name="Picture 4" descr="Approval Process Thesis v9-GRLGraph13345-PM 2.3.png"/>
          <p:cNvPicPr/>
          <p:nvPr/>
        </p:nvPicPr>
        <p:blipFill>
          <a:blip r:embed="rId1"/>
          <a:srcRect l="1284" t="3031" r="48423" b="44339"/>
          <a:stretch/>
        </p:blipFill>
        <p:spPr>
          <a:xfrm>
            <a:off x="5029200" y="2743200"/>
            <a:ext cx="3922560" cy="3002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Approval Process Thesis v9-Map478-ReviewRequestTechnically.png"/>
          <p:cNvPicPr/>
          <p:nvPr/>
        </p:nvPicPr>
        <p:blipFill>
          <a:blip r:embed="rId2"/>
          <a:srcRect l="853" t="1894" r="37775" b="61826"/>
          <a:stretch/>
        </p:blipFill>
        <p:spPr>
          <a:xfrm>
            <a:off x="228600" y="990720"/>
            <a:ext cx="5486400" cy="274320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F7BB7F48-E7EE-46C3-B71E-1836CF8CCC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2E4CB7FB-2FFE-4358-A1D7-61D22924D3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Table 5" descr=""/>
          <p:cNvPicPr/>
          <p:nvPr/>
        </p:nvPicPr>
        <p:blipFill>
          <a:blip r:embed="rId1"/>
          <a:stretch/>
        </p:blipFill>
        <p:spPr>
          <a:xfrm>
            <a:off x="1378080" y="3730680"/>
            <a:ext cx="6010200" cy="1828800"/>
          </a:xfrm>
          <a:prstGeom prst="rect">
            <a:avLst/>
          </a:prstGeom>
          <a:ln w="0">
            <a:noFill/>
          </a:ln>
        </p:spPr>
      </p:pic>
      <p:pic>
        <p:nvPicPr>
          <p:cNvPr id="248" name="Table 6" descr=""/>
          <p:cNvPicPr/>
          <p:nvPr/>
        </p:nvPicPr>
        <p:blipFill>
          <a:blip r:embed="rId2"/>
          <a:stretch/>
        </p:blipFill>
        <p:spPr>
          <a:xfrm>
            <a:off x="1378080" y="1219320"/>
            <a:ext cx="6010200" cy="1828800"/>
          </a:xfrm>
          <a:prstGeom prst="rect">
            <a:avLst/>
          </a:prstGeom>
          <a:ln w="0">
            <a:noFill/>
          </a:ln>
        </p:spPr>
      </p:pic>
      <p:sp>
        <p:nvSpPr>
          <p:cNvPr id="249" name="Down Arrow 7"/>
          <p:cNvSpPr/>
          <p:nvPr/>
        </p:nvSpPr>
        <p:spPr>
          <a:xfrm>
            <a:off x="4300560" y="3019320"/>
            <a:ext cx="380880" cy="768600"/>
          </a:xfrm>
          <a:prstGeom prst="downArrow">
            <a:avLst>
              <a:gd name="adj1" fmla="val 50000"/>
              <a:gd name="adj2" fmla="val 49982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KPI values in two steps of the scenario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1463760" y="5562720"/>
            <a:ext cx="32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* (10 DW Performance related complai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Technical Review sub-process - Revised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53" name="Picture 3" descr="paper-based process-OH-Thesis-DOORS - linux v8_changed importance-GRLGraph13345-PM 2.3 copy.jpg"/>
          <p:cNvPicPr/>
          <p:nvPr/>
        </p:nvPicPr>
        <p:blipFill>
          <a:blip r:embed="rId1"/>
          <a:srcRect l="0" t="2029" r="2446" b="6864"/>
          <a:stretch/>
        </p:blipFill>
        <p:spPr>
          <a:xfrm>
            <a:off x="1663560" y="3156120"/>
            <a:ext cx="4965840" cy="309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aper-based process-OH-Thesis-DOORS - linux v8_changed importance-Map478-ReviewRequestTechnically.png"/>
          <p:cNvPicPr/>
          <p:nvPr/>
        </p:nvPicPr>
        <p:blipFill>
          <a:blip r:embed="rId2"/>
          <a:srcRect l="1069" t="1517" r="13636" b="58870"/>
          <a:stretch/>
        </p:blipFill>
        <p:spPr>
          <a:xfrm>
            <a:off x="1600200" y="685800"/>
            <a:ext cx="5114880" cy="2467080"/>
          </a:xfrm>
          <a:prstGeom prst="rect">
            <a:avLst/>
          </a:prstGeom>
          <a:ln w="0">
            <a:noFill/>
          </a:ln>
        </p:spPr>
      </p:pic>
      <p:sp>
        <p:nvSpPr>
          <p:cNvPr id="255" name="Down Arrow 6"/>
          <p:cNvSpPr/>
          <p:nvPr/>
        </p:nvSpPr>
        <p:spPr>
          <a:xfrm rot="7200000">
            <a:off x="6019560" y="289512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Down Arrow 7"/>
          <p:cNvSpPr/>
          <p:nvPr/>
        </p:nvSpPr>
        <p:spPr>
          <a:xfrm rot="5400000">
            <a:off x="6324120" y="3962520"/>
            <a:ext cx="381240" cy="53316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Down Arrow 8"/>
          <p:cNvSpPr/>
          <p:nvPr/>
        </p:nvSpPr>
        <p:spPr>
          <a:xfrm rot="5400000">
            <a:off x="6705360" y="4876560"/>
            <a:ext cx="381240" cy="53352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Down Arrow 9"/>
          <p:cNvSpPr/>
          <p:nvPr/>
        </p:nvSpPr>
        <p:spPr>
          <a:xfrm rot="5400000">
            <a:off x="6477120" y="563868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 rot="16200000">
            <a:off x="-2730240" y="285732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 Black"/>
              </a:rPr>
              <a:t>Case study</a:t>
            </a:r>
            <a:br>
              <a:rPr sz="2500"/>
            </a:br>
            <a:r>
              <a:rPr b="0" lang="en-US" sz="2500" spc="-1" strike="noStrike">
                <a:solidFill>
                  <a:srgbClr val="990000"/>
                </a:solidFill>
                <a:latin typeface="Arial Black"/>
              </a:rPr>
              <a:t>Revised Goal Model</a:t>
            </a:r>
            <a:endParaRPr b="0" lang="en-US" sz="25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10" descr="paper-based process-OH-Thesis-DOORS - linux v8_changed importance-GRLGraph12901-BG model 1.png"/>
          <p:cNvPicPr/>
          <p:nvPr/>
        </p:nvPicPr>
        <p:blipFill>
          <a:blip r:embed="rId1"/>
          <a:srcRect l="3571" t="2918" r="12887" b="2581"/>
          <a:stretch/>
        </p:blipFill>
        <p:spPr>
          <a:xfrm>
            <a:off x="2222640" y="289080"/>
            <a:ext cx="4521240" cy="6305400"/>
          </a:xfrm>
          <a:prstGeom prst="rect">
            <a:avLst/>
          </a:prstGeom>
          <a:ln w="0">
            <a:noFill/>
          </a:ln>
        </p:spPr>
      </p:pic>
      <p:sp>
        <p:nvSpPr>
          <p:cNvPr id="267" name="Down Arrow 11"/>
          <p:cNvSpPr/>
          <p:nvPr/>
        </p:nvSpPr>
        <p:spPr>
          <a:xfrm rot="16200000">
            <a:off x="2362320" y="137160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Down Arrow 12"/>
          <p:cNvSpPr/>
          <p:nvPr/>
        </p:nvSpPr>
        <p:spPr>
          <a:xfrm rot="16200000">
            <a:off x="2438280" y="3200400"/>
            <a:ext cx="380880" cy="5331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cess portfolio model 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304920" y="1003320"/>
          <a:ext cx="336852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03320"/>
                    <a:ext cx="336852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3"/>
          <p:cNvGraphicFramePr/>
          <p:nvPr/>
        </p:nvGraphicFramePr>
        <p:xfrm>
          <a:off x="5006880" y="990720"/>
          <a:ext cx="334188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990720"/>
                    <a:ext cx="33418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Right Arrow 7"/>
          <p:cNvSpPr/>
          <p:nvPr/>
        </p:nvSpPr>
        <p:spPr>
          <a:xfrm>
            <a:off x="3902040" y="2273400"/>
            <a:ext cx="863640" cy="596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7013520" y="2336760"/>
            <a:ext cx="1143000" cy="851040"/>
          </a:xfrm>
          <a:prstGeom prst="ellipse">
            <a:avLst/>
          </a:prstGeom>
          <a:noFill/>
          <a:ln w="3492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176560" y="4343400"/>
          <a:ext cx="4290840" cy="1494000"/>
        </p:xfrm>
        <a:graphic>
          <a:graphicData uri="http://schemas.openxmlformats.org/drawingml/2006/table">
            <a:tbl>
              <a:tblPr/>
              <a:tblGrid>
                <a:gridCol w="1087200"/>
                <a:gridCol w="790560"/>
                <a:gridCol w="750960"/>
                <a:gridCol w="750960"/>
                <a:gridCol w="911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PO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B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ch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pproval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mpor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erform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</a:tr>
              <a:tr h="2134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mpor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7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erform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</a:tbl>
          </a:graphicData>
        </a:graphic>
      </p:graphicFrame>
      <p:sp>
        <p:nvSpPr>
          <p:cNvPr id="279" name="TextBox 10"/>
          <p:cNvSpPr/>
          <p:nvPr/>
        </p:nvSpPr>
        <p:spPr>
          <a:xfrm>
            <a:off x="1656720" y="7444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6355080" y="685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1181160" y="4791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1177920" y="5438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C022B6D8-92D4-40F5-9149-004A34D0B6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16200000">
            <a:off x="-2057400" y="259056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Framework Component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2438280" y="304920"/>
          <a:ext cx="4191120" cy="54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04920"/>
                    <a:ext cx="419112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4B5C156D-4AAC-4D39-BB30-2E86DF2A3A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Future Work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85" name="Content Placeholder 4" descr=""/>
          <p:cNvPicPr/>
          <p:nvPr/>
        </p:nvPicPr>
        <p:blipFill>
          <a:blip r:embed="rId1"/>
          <a:stretch/>
        </p:blipFill>
        <p:spPr>
          <a:xfrm>
            <a:off x="298440" y="1122480"/>
            <a:ext cx="7620120" cy="4649760"/>
          </a:xfrm>
          <a:prstGeom prst="rect">
            <a:avLst/>
          </a:prstGeom>
          <a:ln w="0">
            <a:noFill/>
          </a:ln>
        </p:spPr>
      </p:pic>
      <p:sp>
        <p:nvSpPr>
          <p:cNvPr id="286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78F31A3F-390F-48B5-B4E6-D7073FEC5F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erformance Management Core Model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2"/>
          <p:cNvGraphicFramePr/>
          <p:nvPr/>
        </p:nvGraphicFramePr>
        <p:xfrm>
          <a:off x="533520" y="1143000"/>
          <a:ext cx="761976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1976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42E55C3D-DC9A-4C51-9F61-862B507EAA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erformance Model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graphicFrame>
        <p:nvGraphicFramePr>
          <p:cNvPr id="103" name="Object 10"/>
          <p:cNvGraphicFramePr/>
          <p:nvPr/>
        </p:nvGraphicFramePr>
        <p:xfrm>
          <a:off x="762120" y="838080"/>
          <a:ext cx="7542000" cy="48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542000" cy="48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24ACA33E-DA1A-42A3-8ADC-780339DDBA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542880" y="1212840"/>
            <a:ext cx="7626240" cy="428004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B9B758C2-DE1D-49B6-A0D2-5A0B47950A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How to tackle the problem?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2"/>
          <p:cNvGraphicFramePr/>
          <p:nvPr/>
        </p:nvGraphicFramePr>
        <p:xfrm>
          <a:off x="1523880" y="990720"/>
          <a:ext cx="5791320" cy="56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579132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0FFBA103-BF4E-4D0A-8646-6BE3F22C56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7" descr="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4421160" y="1771560"/>
            <a:ext cx="4678560" cy="342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4520" y="1290600"/>
            <a:ext cx="4376880" cy="4576680"/>
          </a:xfrm>
          <a:prstGeom prst="rect">
            <a:avLst/>
          </a:prstGeom>
          <a:ln w="0">
            <a:noFill/>
          </a:ln>
        </p:spPr>
      </p:pic>
      <p:sp>
        <p:nvSpPr>
          <p:cNvPr id="116" name="Freeform 7"/>
          <p:cNvSpPr/>
          <p:nvPr/>
        </p:nvSpPr>
        <p:spPr>
          <a:xfrm>
            <a:off x="3459240" y="2252520"/>
            <a:ext cx="2011320" cy="338400"/>
          </a:xfrm>
          <a:prstGeom prst="pie">
            <a:avLst/>
          </a:prstGeom>
          <a:noFill/>
          <a:ln w="255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83720" y="80496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harg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162040" y="905040"/>
            <a:ext cx="33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 Business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22860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C04BF893-1E29-4634-83BF-317C9577AE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0" y="990720"/>
            <a:ext cx="4559400" cy="480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>
            <a:lum contrast="16000"/>
          </a:blip>
          <a:stretch/>
        </p:blipFill>
        <p:spPr>
          <a:xfrm>
            <a:off x="5630760" y="685800"/>
            <a:ext cx="3440160" cy="348300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 flipV="1">
            <a:off x="3962520" y="3036600"/>
            <a:ext cx="1663560" cy="17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3">
            <a:lum contrast="16000"/>
          </a:blip>
          <a:stretch/>
        </p:blipFill>
        <p:spPr>
          <a:xfrm>
            <a:off x="4724280" y="4226040"/>
            <a:ext cx="4267440" cy="1565280"/>
          </a:xfrm>
          <a:prstGeom prst="rect">
            <a:avLst/>
          </a:prstGeom>
          <a:ln w="0">
            <a:noFill/>
          </a:ln>
        </p:spPr>
      </p:pic>
      <p:sp>
        <p:nvSpPr>
          <p:cNvPr id="125" name="Line 10"/>
          <p:cNvSpPr/>
          <p:nvPr/>
        </p:nvSpPr>
        <p:spPr>
          <a:xfrm flipH="1">
            <a:off x="6248520" y="3473280"/>
            <a:ext cx="591840" cy="752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22860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F7676404-A3DA-46E4-923A-B139E3FD17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4:59:41Z</dcterms:created>
  <dc:creator>Alireza Pourshahid</dc:creator>
  <dc:description/>
  <dc:language>en-US</dc:language>
  <cp:lastModifiedBy>Daniel Amyot</cp:lastModifiedBy>
  <dcterms:modified xsi:type="dcterms:W3CDTF">2008-11-06T16:47:07Z</dcterms:modified>
  <cp:revision>149</cp:revision>
  <dc:subject/>
  <dc:title>Business Process Modelling, Analysis and Monitoring with URN, jUCMNav and Cognos 8a</dc:title>
</cp:coreProperties>
</file>