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A20D-DA28-4768-A00C-765971510ABC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2E94-B804-46D9-BB35-E58BF5EF703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17C6-5140-4F4E-AB2C-5C43BEC67F8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***********SOURCE: business analysts, business users****************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 you navigate the goal model, you see how higher-level business goals can be achieved by moving downwards. On the other hand, to see why a particular goal is needed, you just have to move upwards from that go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58B5-7821-4CCB-90EA-765BFBAAC1C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E857-F75D-4580-9D64-4EFB3836C98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504D-07A4-494A-A903-0CB05BF8222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Leaf-level goals – the actual work to be done in BPs – map into WS invo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igher-level goals are used to group lower-level ones and with the help of control flow annotations are used to generate the corresponding BPEL control flow constr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12AE-A729-444D-A9B1-87E7C04F358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Leaf-level goals – the actual work to be done in BPs – map into WS invo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igher-level goals are used to group lower-level ones and with the help of control flow annotations are used to generate the corresponding BPEL control flow constr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E326-9F59-4FCA-8972-521C5109C40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5017-572A-4928-B5E1-8BD5E236808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81D8-60A7-4B29-80B9-664B5E9BFADF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02C7-8487-4D42-BB2E-8C8E83BE899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9BAA0-B46A-4AE8-829E-3BA9328E2DC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55F6-404F-47FF-ACB9-2B0D00FFF3A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1290-83F3-40DC-A916-F60D62D7A59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B239-BD13-48CF-90B9-2D74F3279B25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EBC7-A084-4555-98F4-FDBEF8B331C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6EFC-B745-4934-A4B8-3CEA8B3779D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4856-F242-46A1-A477-C375FAEB690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roblems: it’s like if we just started writing code right away, without requirements or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7E45-4A2D-45E7-9DFD-802ED63BF81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72C1-157E-40A4-9F07-C8297E4EAC7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ote: this is an expanded version of the Supply Customer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*******SOURCE: business analyst, requirements engineer, developers***********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ote: conditions are mostly informa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DB7A-3B19-418D-9B9A-D64CAF2E1C6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32DF-4968-4E85-84C4-619B094AE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6625-C455-4F4C-AD35-7F10E44DD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E6160-A9EE-4728-8887-477F7903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C8126-B940-417C-A1AD-B0671537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C4C93-F353-4C8F-8E60-EC0332F1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90A38B-CA54-4AF2-BB74-8A4D806A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91E305-C1F2-4357-84A4-DBFDDA7B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8A580-B8E1-49CD-87B6-87999724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A4B80-3AFB-4F09-B10A-1DB743E8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2C7E4-2E9D-47B6-AE3D-4C6C08827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4001E1-EDB5-4495-9586-0627B20D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3ED480-8B84-4A6B-981E-C928B041F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60E2-665C-45DC-BD0B-E801E87DA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9D8EFA-5127-4692-B9EF-C905E6BA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4ECAA2-4862-4774-BC8F-25D4036A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C89A96-F713-4311-916B-5643EAEE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A262A-8320-4C00-8F9E-674253A9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72EB0A-567E-4FC8-AA00-1A91A84E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E49898-D991-4EA9-9C47-8757EFC9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752D6C-99C5-4598-8004-CCDAF49D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581F27-F2F6-4A35-ACE3-03AFD728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7D924-B4F3-404D-87C3-3DB9F137F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D6D46-CC96-4393-8035-B9F881DC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A2EA-B279-4EEE-8FA4-8EFEEB70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A79FA-5BA6-49A5-B959-478B9340F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85A14-7F74-4FC2-A348-9078B0EF7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DFE2F-1151-48B6-BAFA-6A995C2F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E5AF4-DFF6-4252-B30C-F989ED20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5B359-C389-4235-8648-F714A18E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017C8-4A31-4B7D-9134-A1C13FE2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7E324-6E4B-4A79-B6D9-C9DF42B9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4FD72-CC44-467A-AB15-A3D9E70B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7E5AB-2F05-4C27-B491-D79C197F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0BC8D6-674E-4F94-BBBB-A159E381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1BC9-B504-462D-A403-A9EDE9F28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C24551-E49E-45C4-B2F3-2ACF8948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7964F1-6B39-4BF6-B018-8291FA2BA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8DAC4-9DF4-47CB-9533-4AF026DDA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222056-1033-4E21-9E53-8D71B596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A2F07-69C9-4FFE-93D9-A67592E2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D365E4-3D2F-4C10-BB37-ACC03D56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44FF33-1357-483F-BBA6-0C663D75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108E8F-FC20-4203-B5BD-E6D1284C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9A1594-BA46-4B07-A9E8-21D2E982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8584ED-C2C1-44D2-89B5-D2B821CE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0C2A-1137-486E-98A3-2948D77B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14559-4BE4-4791-A66A-CD8E0547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482E66-D608-4843-9598-8872DF07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9C0CB-B35F-420D-A00E-9FB26954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805307-1AB5-430B-BEFA-E42A2A53C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93852C-79A6-42CC-8C2C-62342EA3C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A647C1-7897-4AE8-9DB8-89377F9A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68EC1C-85E5-4169-8C1D-BACA3EE0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E139E3-22CB-44BF-B005-C6E3465D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14226E-514D-4EBC-B506-C3534235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24E25A-CDE6-4DBF-9B8E-06527290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FA7C-8A04-4C47-AD1D-BA1F09F7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909D85-6A46-46EA-928E-C57EB0C9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10EF0C-BCCC-4128-913C-EA29E042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600420-7350-4D87-9400-E1F61716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8C8428-7104-4E5B-8708-9108564C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0BDC2C-1D55-4489-81EA-249FC6CD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FF6B77-0818-470F-806A-BD2CBF596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1A3338-7356-4771-8CDC-2B2CC2864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66F2-A740-4A78-80F3-AE66D539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22C5-10E7-40B0-939F-0CB56197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ACF0-569E-4AD1-80C8-9267021C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40F0-8BD6-4E11-BF91-4B0E32E2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7A6F-1E9A-469B-AD57-68A674FC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A652-0717-45F6-B973-149DAA8B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9C62-68DA-4791-88BE-23D80477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AB91-3348-43F1-AB7B-42929CA8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EC68-FA31-4729-8F19-13D24F79D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B5DB-09AB-44A2-B5DE-E7008709A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324E9-0551-4848-B510-E8D07BA12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A12A7-A66D-4BD4-8A79-DD1CAF80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18E3F-CC5C-4397-BC05-0BBB3FF7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1F29A-0883-40E9-859E-97B65827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56A49-A717-4661-AB2D-87F697BC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9685-B628-42BC-9BB1-1BAD93C7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5CC94-C6B9-4009-9A0D-1D69B23A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F9C31-EC87-47D6-9F1C-741612D0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A7B61-70F9-4A04-A953-66AB8BA5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44CB3-1AD5-4599-910B-44C264DE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4B979-FDF3-4832-8107-491FF863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EF073-1CE9-4D74-A243-E0F321B79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62CD3-827B-453A-AA25-99E52FED6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251F4-2264-47AE-A31E-3CDEDF88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CCC06-4A61-4332-ADC0-E162C897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A75B5-985B-46BC-811C-49EE3217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394C-6769-4E10-866C-3D86DA71D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FB920-B8B1-4649-96E4-049AACAF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E8492-7302-4553-9107-A2A63685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D47B1-A217-4028-9F48-B50FBD59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D6645-73A9-4384-A180-88579B10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3962E-9CAE-4DBC-84B2-EEC69DFD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3CD0A-FC13-4758-A47F-E472A492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6D8BF-7298-4044-9BAC-AC99AC70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89BFD-1B55-4365-9C9A-6692AF1E8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89C81-4E35-4427-AA50-26DADFC6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902CC-B7CF-4A3E-8E4E-36F048FBD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1971-29F8-4D44-A9D9-876EF9B15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18411-747D-4CC6-8835-DB880079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24E9E-C7B6-450B-A7C5-6CFD0ADD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6B5FE-0FC7-47F5-88D2-87610B45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1CE05-B043-4CDB-8945-71A977A3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8599D-3764-4C64-8EB2-F4EA57B2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1EBEB-6208-4581-BCFF-0C4800E7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518A5-0FB2-4D2A-93B7-3A7C85C0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0D517-DAB8-43FC-BDAD-904B72F3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303F7-AD1F-46FB-BBA8-CB9F4E44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0A93D-F9F3-4BA7-8624-1777F901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0809-9122-4678-BC4C-29E64EF9E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4C4A5-7F3F-4171-A65C-28C330A1A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AB8B6-8C1D-4688-9A95-AFD3FD452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C37A5-488C-4FAE-84FF-120756B8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989B05-D554-4B79-8C1B-06E73F36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642FF-2A5A-42CE-806B-D8A83568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B8E4B-5F50-4C5C-B79C-165D4DB9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F1510-7C2F-432D-BD51-316E06E7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E3BBC-6C58-4DCD-8491-B45115F5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FAE81-B217-4131-BDDC-066FD064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7D5F0-ABA3-4C4E-8155-44B7B5FD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211F-55AA-47B5-A57F-F9F772B1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1C78D-FFBB-4ADC-BB20-2FFF5AED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AE804-391E-4197-8868-C96CBDC1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D62AF-C16A-4B4D-8916-FE4F82DF2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79091-D8C1-42E3-AFCB-CF53A2822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ADEFB-3D8D-46C0-BB8F-990AC3E9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DBE2A6-7C84-47EC-9245-9854CE84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F1631-96D1-4638-9191-9C11B9B9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38E5E-ADB8-4CE2-A0BA-C4B995DF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49BE81-6750-40DF-9BC4-7A7841EB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9FD74-C887-4AF3-AC44-A05CF42C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6CAC-735B-4149-B623-AD919810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BE907-990B-44C4-8F4F-9E8C1273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955C0-504E-49BE-85C4-715382C5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4ECC5-9FF4-4136-9199-63C5812F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0F358-9C6C-4FE3-BC23-A58698A1E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B8BB5-09E8-471C-9A25-706AE64F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42D2C-945C-43D8-8A17-07B35396E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84E2E-6025-4B18-99FD-6E1FA71C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1FE21-FF24-4779-A149-263D615E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F0C75-4523-41E2-AC1F-78C7AEAD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F80A5-4EC2-481A-8428-7AFBCB7A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653D-E1DC-4808-A80C-27D00B2A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A55A0-C7C9-4688-B702-028D6FBE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24C89-03C6-4C8A-A4F6-9C63FDE5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FACE4-7F7B-4E04-8BD1-08239360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54826-3D7A-4658-8DCE-5848DACD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B68EDA-0EFE-4EC3-8559-2393D95A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36DBA-A12E-4792-AFF3-D57D4EE43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DBCE2-2A91-4FB7-BC07-71DAC14B0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C7292-EEBA-4006-864C-E6FA660FB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8496D-D8DE-4A78-952E-14C0AAC4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3D5AF-E5AC-4C2B-BE94-BB138633D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4EB2-821A-4049-B0C5-071EF473C98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21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1897-76C1-4254-939D-1147D6AEBF1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64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BPM 2007, Brisban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Austral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 September,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28CA-A593-4684-A601-B8273C59BD7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507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BPM 2007, Brisban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Austral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 September,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DC95-F1C8-4AFD-B3C5-6E1A94480E7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550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BPM 2007, Brisban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Austral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 September,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7F5F-0ACE-4C29-BB88-20B412E6862F}" type="slidenum">
              <a:rPr b="0" lang="en-US" sz="1600" spc="-1" strike="noStrike">
                <a:solidFill>
                  <a:srgbClr val="33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44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45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46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47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48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49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0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1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2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3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4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5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6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7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8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9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0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1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2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3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4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5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6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7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8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9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70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71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72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73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74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75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</p:grpSp>
      <p:sp>
        <p:nvSpPr>
          <p:cNvPr id="76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77" name="Picture 41" descr="ut-logo"/>
          <p:cNvPicPr/>
          <p:nvPr/>
        </p:nvPicPr>
        <p:blipFill>
          <a:blip r:embed="rId2"/>
          <a:stretch/>
        </p:blipFill>
        <p:spPr>
          <a:xfrm>
            <a:off x="7524720" y="1125360"/>
            <a:ext cx="1368360" cy="1349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0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26AA-DBC0-4E73-96B0-DC0E7AF4448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3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368B-1581-4848-8E36-CABCA94163B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6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E4D0-27E0-45FF-A685-55D68888C35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9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7F07-822B-4746-9613-23F080F9F80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92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2F08-2805-4D04-9B50-F351F590037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35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96B7-4A41-47CB-8805-355A00B14EC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78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4256-4AC1-4CE3-B65C-E1175BB05D8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3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37.xml"/><Relationship Id="rId1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79280" y="466200"/>
            <a:ext cx="70567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0066"/>
                </a:solidFill>
                <a:latin typeface="Arial"/>
              </a:rPr>
              <a:t>Requirements-Driven Design and Configuration Management of BPs</a:t>
            </a:r>
            <a:r>
              <a:rPr b="1" lang="en-CA" sz="4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611280" y="3049200"/>
            <a:ext cx="6486480" cy="27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lexei Lapouchn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(with Yijun Yu, John Mylopoul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7e9ce8"/>
                </a:solidFill>
                <a:latin typeface="Arial"/>
              </a:rPr>
              <a:t>Department of Computer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7e9ce8"/>
                </a:solidFill>
                <a:latin typeface="Arial"/>
              </a:rPr>
              <a:t>University of Toronto,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0735-C6B3-4DD3-B371-FD1FFB21801C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Variation Poi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3" name="Rectangle 3"/>
          <p:cNvSpPr/>
          <p:nvPr/>
        </p:nvSpPr>
        <p:spPr>
          <a:xfrm>
            <a:off x="0" y="21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664" name="Object 4"/>
          <p:cNvGraphicFramePr/>
          <p:nvPr/>
        </p:nvGraphicFramePr>
        <p:xfrm>
          <a:off x="1474920" y="1484280"/>
          <a:ext cx="6553080" cy="472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1484280"/>
                    <a:ext cx="6553080" cy="47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6" name="Oval 9"/>
          <p:cNvSpPr/>
          <p:nvPr/>
        </p:nvSpPr>
        <p:spPr>
          <a:xfrm>
            <a:off x="1467000" y="2349360"/>
            <a:ext cx="1800000" cy="1123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7" name="Oval 10"/>
          <p:cNvSpPr/>
          <p:nvPr/>
        </p:nvSpPr>
        <p:spPr>
          <a:xfrm>
            <a:off x="2006640" y="4464000"/>
            <a:ext cx="1800360" cy="1123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8" name="Oval 11"/>
          <p:cNvSpPr/>
          <p:nvPr/>
        </p:nvSpPr>
        <p:spPr>
          <a:xfrm>
            <a:off x="6146640" y="3429000"/>
            <a:ext cx="1800360" cy="1123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57416-CC3B-40DC-90A4-B727A633F69D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Configuration Option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2" name="Rectangle 5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673" name="Object 4"/>
          <p:cNvGraphicFramePr/>
          <p:nvPr/>
        </p:nvGraphicFramePr>
        <p:xfrm>
          <a:off x="1871640" y="1449360"/>
          <a:ext cx="531036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1640" y="1449360"/>
                    <a:ext cx="531036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8242-B4FB-4FFA-AAF3-D74656764343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Configuration Option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8" name="Rectangle 5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679" name="Object 4"/>
          <p:cNvGraphicFramePr/>
          <p:nvPr/>
        </p:nvGraphicFramePr>
        <p:xfrm>
          <a:off x="1816200" y="1449360"/>
          <a:ext cx="5497560" cy="471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6200" y="1449360"/>
                    <a:ext cx="5497560" cy="47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E3B24-EEB1-4847-843E-1E78EFCF90FE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Generating Executable BP Specific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7715160" cy="17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Generate WS-BPEL processes from goal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Semi-automat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Structurally similar to the source goal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7e9ce8"/>
                </a:solidFill>
                <a:latin typeface="Arial"/>
              </a:rPr>
              <a:t>Variability preserv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5" name="Object 4"/>
          <p:cNvGraphicFramePr/>
          <p:nvPr/>
        </p:nvGraphicFramePr>
        <p:xfrm>
          <a:off x="1465200" y="3608280"/>
          <a:ext cx="6077160" cy="25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5200" y="3608280"/>
                    <a:ext cx="607716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7" name="Object 7"/>
          <p:cNvGraphicFramePr/>
          <p:nvPr/>
        </p:nvGraphicFramePr>
        <p:xfrm>
          <a:off x="1467000" y="3608280"/>
          <a:ext cx="6076800" cy="259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67000" y="3608280"/>
                    <a:ext cx="607680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A1330-C07A-41A5-A666-96EDAE9499E7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Generating Executable BP Specific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771516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Mapping Ru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Leaf-level goals </a:t>
            </a:r>
            <a:r>
              <a:rPr b="0" lang="en-CA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WS Invocations (or BPEL process invocatio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Higher-level goals </a:t>
            </a:r>
            <a:r>
              <a:rPr b="0" lang="en-CA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No explicitly mapped. Help in generation of BPEL control flow constr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Conditions/Loops </a:t>
            </a:r>
            <a:r>
              <a:rPr b="0" lang="en-CA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BPEL conditions, lo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Event-driven OR </a:t>
            </a:r>
            <a:r>
              <a:rPr b="0" lang="en-CA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pick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w/ multiple 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onMessage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constr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Softgoals </a:t>
            </a:r>
            <a:r>
              <a:rPr b="0" lang="en-CA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not mapp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ppropriate 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portTypes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, messages (if I/O is specified), etc. are gener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06EA-85B9-47B2-A23B-DFEF38C09867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Mapping Variation Poi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They are a tool to configure executable (and, possibly, deployed) B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Mapping to WS-BP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Generate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f-elseif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for BPEL 2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branch corresponds to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Branch condition (XPath) checks if it is the current choice for the variation po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ctivities in each branch are automatically generated based on the particular alternative in the goal mo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All choices are to be implement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PEL process skeleton is generated. It needs to be complet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The result: </a:t>
            </a:r>
            <a:r>
              <a:rPr b="0" lang="en-CA" sz="2100" spc="-1" strike="noStrike">
                <a:solidFill>
                  <a:srgbClr val="0070c0"/>
                </a:solidFill>
                <a:latin typeface="Arial"/>
              </a:rPr>
              <a:t>High-Variability Executable Model (HVEM)</a:t>
            </a: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 of the business proc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E5FA-B053-4206-B38B-6F1D49B595F1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Configuring HVEMs at Runti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300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Prototype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GUI for preference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Configurator 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Can come up with goal model config based on pref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Can provide the configuration to deployed B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XML Representation for BP configu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1" name="Object 4"/>
          <p:cNvGraphicFramePr/>
          <p:nvPr/>
        </p:nvGraphicFramePr>
        <p:xfrm>
          <a:off x="2637000" y="4681440"/>
          <a:ext cx="4005000" cy="15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7000" y="4681440"/>
                    <a:ext cx="400500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3" name="Object 6"/>
          <p:cNvGraphicFramePr/>
          <p:nvPr/>
        </p:nvGraphicFramePr>
        <p:xfrm>
          <a:off x="5202360" y="1673280"/>
          <a:ext cx="3195360" cy="169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02360" y="1673280"/>
                    <a:ext cx="3195360" cy="1698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81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BPM 2007, Brisban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 Australia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6 September, 2007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E71A5-8BCF-4947-9904-C399E4124615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7" name="AutoShape 2"/>
          <p:cNvSpPr/>
          <p:nvPr/>
        </p:nvSpPr>
        <p:spPr>
          <a:xfrm flipV="1" rot="6743400">
            <a:off x="-78480" y="3025440"/>
            <a:ext cx="1655640" cy="733680"/>
          </a:xfrm>
          <a:custGeom>
            <a:avLst/>
            <a:gdLst>
              <a:gd name="textAreaLeft" fmla="*/ 289800 w 1655640"/>
              <a:gd name="textAreaRight" fmla="*/ 1200600 w 165564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7e9ce8"/>
          </a:solidFill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8" name="Rectangle 3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09" name="Object 4"/>
          <p:cNvGraphicFramePr/>
          <p:nvPr/>
        </p:nvGraphicFramePr>
        <p:xfrm>
          <a:off x="34920" y="3911760"/>
          <a:ext cx="4897440" cy="22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3911760"/>
                    <a:ext cx="4897440" cy="22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1" name="Object 5"/>
          <p:cNvGraphicFramePr/>
          <p:nvPr/>
        </p:nvGraphicFramePr>
        <p:xfrm>
          <a:off x="1258920" y="2205000"/>
          <a:ext cx="2952720" cy="15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2205000"/>
                    <a:ext cx="2952720" cy="1565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81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713" name="AutoShape 6"/>
          <p:cNvSpPr/>
          <p:nvPr/>
        </p:nvSpPr>
        <p:spPr>
          <a:xfrm rot="3775200">
            <a:off x="2237760" y="1297080"/>
            <a:ext cx="1657080" cy="733320"/>
          </a:xfrm>
          <a:custGeom>
            <a:avLst/>
            <a:gdLst>
              <a:gd name="textAreaLeft" fmla="*/ 289800 w 1657080"/>
              <a:gd name="textAreaRight" fmla="*/ 1201320 w 16570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7e9ce8"/>
          </a:solidFill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14" name="Object 7"/>
          <p:cNvGraphicFramePr/>
          <p:nvPr/>
        </p:nvGraphicFramePr>
        <p:xfrm>
          <a:off x="34920" y="44280"/>
          <a:ext cx="2592360" cy="188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20" y="44280"/>
                    <a:ext cx="2592360" cy="18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6" name="Rectangle 8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7" name="Rectangle 9"/>
          <p:cNvSpPr/>
          <p:nvPr/>
        </p:nvSpPr>
        <p:spPr>
          <a:xfrm>
            <a:off x="7416720" y="0"/>
            <a:ext cx="1656000" cy="17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8" name="Oval 10"/>
          <p:cNvSpPr/>
          <p:nvPr/>
        </p:nvSpPr>
        <p:spPr>
          <a:xfrm>
            <a:off x="2394000" y="125280"/>
            <a:ext cx="647640" cy="64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9" name="Oval 11"/>
          <p:cNvSpPr/>
          <p:nvPr/>
        </p:nvSpPr>
        <p:spPr>
          <a:xfrm>
            <a:off x="728640" y="2286000"/>
            <a:ext cx="647640" cy="647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0" name="Oval 12"/>
          <p:cNvSpPr/>
          <p:nvPr/>
        </p:nvSpPr>
        <p:spPr>
          <a:xfrm>
            <a:off x="3762360" y="4402080"/>
            <a:ext cx="647640" cy="647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21" name="Object 13"/>
          <p:cNvGraphicFramePr/>
          <p:nvPr/>
        </p:nvGraphicFramePr>
        <p:xfrm>
          <a:off x="6019920" y="4689360"/>
          <a:ext cx="2557440" cy="982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2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689360"/>
                    <a:ext cx="255744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3" name="Oval 14"/>
          <p:cNvSpPr/>
          <p:nvPr/>
        </p:nvSpPr>
        <p:spPr>
          <a:xfrm>
            <a:off x="5516640" y="4832280"/>
            <a:ext cx="647640" cy="647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4" name="Oval 15"/>
          <p:cNvSpPr/>
          <p:nvPr/>
        </p:nvSpPr>
        <p:spPr>
          <a:xfrm>
            <a:off x="3699000" y="2286000"/>
            <a:ext cx="647640" cy="647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5" name="AutoShape 16"/>
          <p:cNvSpPr/>
          <p:nvPr/>
        </p:nvSpPr>
        <p:spPr>
          <a:xfrm>
            <a:off x="3141720" y="3033720"/>
            <a:ext cx="934920" cy="216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6" name="Rectangle 17"/>
          <p:cNvSpPr/>
          <p:nvPr/>
        </p:nvSpPr>
        <p:spPr>
          <a:xfrm>
            <a:off x="6058080" y="5678640"/>
            <a:ext cx="2439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 deployed generic process gets the appropriate configuration.</a:t>
            </a:r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7" name="Rectangle 18"/>
          <p:cNvSpPr/>
          <p:nvPr/>
        </p:nvSpPr>
        <p:spPr>
          <a:xfrm>
            <a:off x="3492360" y="6219720"/>
            <a:ext cx="220500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8" name="Rectangle 19"/>
          <p:cNvSpPr/>
          <p:nvPr/>
        </p:nvSpPr>
        <p:spPr>
          <a:xfrm>
            <a:off x="1150920" y="6199200"/>
            <a:ext cx="29257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iven high-level preferences, the appropriate configuration is selected</a:t>
            </a:r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29" name="Object 20"/>
          <p:cNvGraphicFramePr/>
          <p:nvPr/>
        </p:nvGraphicFramePr>
        <p:xfrm>
          <a:off x="4527720" y="68400"/>
          <a:ext cx="3958920" cy="169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0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27720" y="68400"/>
                    <a:ext cx="395892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1" name="Rectangle 21"/>
          <p:cNvSpPr/>
          <p:nvPr/>
        </p:nvSpPr>
        <p:spPr>
          <a:xfrm>
            <a:off x="4842000" y="1865160"/>
            <a:ext cx="4216320" cy="260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746680" y="1943280"/>
            <a:ext cx="2440080" cy="40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BP Configuration</a:t>
            </a:r>
            <a:endParaRPr b="1" lang="en-US" sz="21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33" name="Object 23"/>
          <p:cNvGraphicFramePr/>
          <p:nvPr/>
        </p:nvGraphicFramePr>
        <p:xfrm>
          <a:off x="4915080" y="2413080"/>
          <a:ext cx="4071600" cy="2028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34" name="Object 2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15080" y="2413080"/>
                    <a:ext cx="4071600" cy="20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5" name="Oval 24"/>
          <p:cNvSpPr/>
          <p:nvPr/>
        </p:nvSpPr>
        <p:spPr>
          <a:xfrm>
            <a:off x="4076640" y="125280"/>
            <a:ext cx="647640" cy="64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FBEE-95C2-41B6-ABA4-EA1AE5FE53DA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Discus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Model BPs at high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Explicit representation of quality attributes (softgoa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nalysis of alternatives w.r.t. soft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Traceability to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BP configuration at high-level, in user-oriented te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High-level visualization of BPs using goal models is pos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Drawba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Explicit representation of BP altern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Talk 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Requirements-driven configuration of B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0000"/>
                </a:solidFill>
                <a:latin typeface="Arial"/>
              </a:rPr>
              <a:t>Using contexts to capture domain variability and its effects on BP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Towards adaptive B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98C0-D910-49C9-A547-D9464861A4F6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334B-69BA-47AC-A2E8-FDC4011EE2EF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Our Aim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6320"/>
            <a:ext cx="82296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velop a method for </a:t>
            </a:r>
            <a:r>
              <a:rPr b="0" lang="en-CA" sz="2800" spc="-1" strike="noStrike">
                <a:solidFill>
                  <a:srgbClr val="7e9ce8"/>
                </a:solidFill>
                <a:latin typeface="Arial"/>
              </a:rPr>
              <a:t>requirements-drive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specification and configuration of business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t design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bility to explicitly specify, refine and analyze </a:t>
            </a:r>
            <a:r>
              <a:rPr b="0" lang="en-CA" sz="2400" spc="-1" strike="noStrike">
                <a:solidFill>
                  <a:srgbClr val="7e9ce8"/>
                </a:solidFill>
                <a:latin typeface="Arial"/>
              </a:rPr>
              <a:t>goals of business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bility to model </a:t>
            </a:r>
            <a:r>
              <a:rPr b="0" lang="en-CA" sz="2400" spc="-1" strike="noStrike">
                <a:solidFill>
                  <a:srgbClr val="7e9ce8"/>
                </a:solidFill>
                <a:latin typeface="Arial"/>
              </a:rPr>
              <a:t>quality constraints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lated to 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bility to capture </a:t>
            </a:r>
            <a:r>
              <a:rPr b="0" lang="en-CA" sz="2400" spc="-1" strike="noStrike">
                <a:solidFill>
                  <a:srgbClr val="7e9ce8"/>
                </a:solidFill>
                <a:latin typeface="Arial"/>
              </a:rPr>
              <a:t>alternative way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of achieving the goals of BPs and to model their </a:t>
            </a:r>
            <a:r>
              <a:rPr b="0" lang="en-CA" sz="2400" spc="-1" strike="noStrike">
                <a:solidFill>
                  <a:srgbClr val="7e9ce8"/>
                </a:solidFill>
                <a:latin typeface="Arial"/>
              </a:rPr>
              <a:t>effect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on quality constraints – </a:t>
            </a:r>
            <a:r>
              <a:rPr b="0" lang="en-CA" sz="2400" spc="-1" strike="noStrike">
                <a:solidFill>
                  <a:srgbClr val="0070c0"/>
                </a:solidFill>
                <a:latin typeface="Arial"/>
              </a:rPr>
              <a:t>high-variability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eneration of high-variability executable BPs based on go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Beyond Intentional Variabilit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7200" y="1719000"/>
            <a:ext cx="8229600" cy="15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Intentional variability cannot capture all the details needed for flexible, adaptable systems. Too high-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4625-6712-4F8E-8066-912680AEEFFC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8" name="Content Placeholder 2"/>
          <p:cNvSpPr/>
          <p:nvPr/>
        </p:nvSpPr>
        <p:spPr>
          <a:xfrm>
            <a:off x="609480" y="3384720"/>
            <a:ext cx="47181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How can we model the fact that automatic approval for large orders is </a:t>
            </a:r>
            <a:r>
              <a:rPr b="0" lang="en-CA" sz="3000" spc="-1" strike="noStrike">
                <a:solidFill>
                  <a:srgbClr val="ff0000"/>
                </a:solidFill>
                <a:latin typeface="Arial"/>
              </a:rPr>
              <a:t>very risky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, while for others, its just risky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49" name="Object 5"/>
          <p:cNvGraphicFramePr/>
          <p:nvPr/>
        </p:nvGraphicFramePr>
        <p:xfrm>
          <a:off x="5094360" y="2859120"/>
          <a:ext cx="4011480" cy="274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4360" y="2859120"/>
                    <a:ext cx="4011480" cy="27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Taking the environment into consider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438120" y="1695240"/>
            <a:ext cx="822960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Environment (domain) characteristics and their dynamics affect the requirements and must be taken into consideration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We take the intentional view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omain characteristics influence the requirements and the behaviour of the system. In particular, they c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ffect the </a:t>
            </a:r>
            <a:r>
              <a:rPr b="0" lang="en-CA" sz="2400" spc="-1" strike="noStrike">
                <a:solidFill>
                  <a:srgbClr val="0070c0"/>
                </a:solidFill>
                <a:latin typeface="Arial"/>
              </a:rPr>
              <a:t>requirements themselve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: what is required of the system, i.e., system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ffect/constrain </a:t>
            </a:r>
            <a:r>
              <a:rPr b="0" lang="en-CA" sz="2400" spc="-1" strike="noStrike">
                <a:solidFill>
                  <a:srgbClr val="0070c0"/>
                </a:solidFill>
                <a:latin typeface="Arial"/>
              </a:rPr>
              <a:t>goal refinemen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, e.g., change the available alternatives to achieve system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lang="en-CA" sz="2400" spc="-1" strike="noStrike">
                <a:solidFill>
                  <a:srgbClr val="0070c0"/>
                </a:solidFill>
                <a:latin typeface="Arial"/>
              </a:rPr>
              <a:t>how alternatives are evaluated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.r.t. soft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lang="en-CA" sz="2400" spc="-1" strike="noStrike">
                <a:solidFill>
                  <a:srgbClr val="0070c0"/>
                </a:solidFill>
                <a:latin typeface="Arial"/>
              </a:rPr>
              <a:t>prioritie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over quality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AFD8-423A-463F-9563-A8912B806B1B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77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Our view of contex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482760" y="98424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perties of the environment that affect requirements are captured using </a:t>
            </a:r>
            <a:r>
              <a:rPr b="0" i="1" lang="en-CA" sz="2800" spc="-1" strike="noStrike">
                <a:solidFill>
                  <a:srgbClr val="ff0000"/>
                </a:solidFill>
                <a:latin typeface="Arial"/>
              </a:rPr>
              <a:t>context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asic definition of a contex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3301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70c0"/>
                </a:solidFill>
                <a:latin typeface="Arial"/>
              </a:rPr>
              <a:t>Abstraction over domain assumptions and/or propertie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3301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ny things can be considered to be parts of a contex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6240" indent="-3258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ardware/software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6240" indent="-3258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PU/bandwidth utilization, current system load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6240" indent="-3258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istory of user inte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6240" indent="-3258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istory of attempted adap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6240" indent="-3258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urrent and recent system/process metric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6240" indent="-3258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6240" indent="-3258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1122-FC9F-473D-9962-552494F92B0E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495936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Capturing contex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457200" y="1339920"/>
            <a:ext cx="8229600" cy="47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70c0"/>
                </a:solidFill>
                <a:latin typeface="Arial"/>
              </a:rPr>
              <a:t>Context Ent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Things that the process works on (documents/data, supplies, etc.) or with (users, business partners, legacy system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Influence the process (management, owners, government regulator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Other things (date, time, weather conditions, etc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Context entities have </a:t>
            </a:r>
            <a:r>
              <a:rPr b="0" lang="en-CA" sz="2600" spc="-1" strike="noStrike">
                <a:solidFill>
                  <a:srgbClr val="0070c0"/>
                </a:solidFill>
                <a:latin typeface="Arial"/>
              </a:rPr>
              <a:t>context dimen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Properties that affect the requirements (e.g., size, location, importance, utilization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12D4-9B74-457D-8A6A-7825B84D55CA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63" name="Object 6"/>
          <p:cNvGraphicFramePr/>
          <p:nvPr/>
        </p:nvGraphicFramePr>
        <p:xfrm>
          <a:off x="1238400" y="2717640"/>
          <a:ext cx="6746760" cy="21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0" y="2717640"/>
                    <a:ext cx="6746760" cy="21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Context refinement hierarch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457200" y="1294920"/>
            <a:ext cx="82296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Contexts can be arranged in hierarch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tructure the dom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implify the modeling of the effects that contexts have on the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Leaf-level contexts are </a:t>
            </a:r>
            <a:r>
              <a:rPr b="0" i="1" lang="en-CA" sz="2600" spc="-1" strike="noStrike">
                <a:solidFill>
                  <a:srgbClr val="0070c0"/>
                </a:solidFill>
                <a:latin typeface="Arial"/>
              </a:rPr>
              <a:t>defined</a:t>
            </a:r>
            <a:r>
              <a:rPr b="0" lang="en-CA" sz="2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o determine when they are </a:t>
            </a:r>
            <a:r>
              <a:rPr b="0" i="1" lang="en-CA" sz="2600" spc="-1" strike="noStrike">
                <a:solidFill>
                  <a:srgbClr val="000000"/>
                </a:solidFill>
                <a:latin typeface="Arial"/>
              </a:rPr>
              <a:t>active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4990-1F36-46A9-9A85-3DB5EDB0C09C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69" name="Object 3"/>
          <p:cNvGraphicFramePr/>
          <p:nvPr/>
        </p:nvGraphicFramePr>
        <p:xfrm>
          <a:off x="1504800" y="4095720"/>
          <a:ext cx="6070680" cy="21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4800" y="4095720"/>
                    <a:ext cx="607068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Adding contexts to goal mode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EASS 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October 28, 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2716-0B34-4B44-97DF-167D86E4ABE0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74" name="Object 6"/>
          <p:cNvGraphicFramePr/>
          <p:nvPr/>
        </p:nvGraphicFramePr>
        <p:xfrm>
          <a:off x="184320" y="1251000"/>
          <a:ext cx="8877240" cy="16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" y="1251000"/>
                    <a:ext cx="887724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6" name="Object 8"/>
          <p:cNvGraphicFramePr/>
          <p:nvPr/>
        </p:nvGraphicFramePr>
        <p:xfrm>
          <a:off x="482760" y="3138480"/>
          <a:ext cx="7704000" cy="357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2760" y="3138480"/>
                    <a:ext cx="770400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2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More Examples of Contex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05B3-C1C9-4032-8755-A059A6196C93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81" name="Object 3"/>
          <p:cNvGraphicFramePr/>
          <p:nvPr/>
        </p:nvGraphicFramePr>
        <p:xfrm>
          <a:off x="328680" y="1117440"/>
          <a:ext cx="5289480" cy="515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80" y="1117440"/>
                    <a:ext cx="5289480" cy="5156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83" name="Object 5"/>
          <p:cNvGraphicFramePr/>
          <p:nvPr/>
        </p:nvGraphicFramePr>
        <p:xfrm>
          <a:off x="5796000" y="2685960"/>
          <a:ext cx="3043080" cy="256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6000" y="2685960"/>
                    <a:ext cx="3043080" cy="2565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Using contex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Several ways context can be us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70c0"/>
                </a:solidFill>
                <a:latin typeface="Arial"/>
              </a:rPr>
              <a:t>Process instance configuration 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o suit the current context. E.g. (the BP example), look at current date/time, order/customer properties, product characteristics, shipping destination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Dynamic environment results in dynamic context. Thus, context can be monitored and </a:t>
            </a:r>
            <a:r>
              <a:rPr b="0" lang="en-CA" sz="2600" spc="-1" strike="noStrike">
                <a:solidFill>
                  <a:srgbClr val="0070c0"/>
                </a:solidFill>
                <a:latin typeface="Arial"/>
              </a:rPr>
              <a:t>process instances can be adapted to changing contexts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FEED-3F50-479C-AD30-C09BA28DC01E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Supporting Dynamic Contex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daptive systems change in dynamic environments – i.e., </a:t>
            </a:r>
            <a:r>
              <a:rPr b="0" lang="en-CA" sz="2800" spc="-1" strike="noStrike">
                <a:solidFill>
                  <a:srgbClr val="0070c0"/>
                </a:solidFill>
                <a:latin typeface="Arial"/>
              </a:rPr>
              <a:t>when context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ed to understand which contexts are static and which are dynamic within a process 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ometimes it’s not clear. E.g., customer risk in the presence of multiple process inst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hange in context entity indicates change in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ext monitoring using context 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12B7-8137-4B90-A1D9-DA01331AD4EE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Talk 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Requirements-driven configuration of B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Using contexts to capture domain variability and its effects on BP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0000"/>
                </a:solidFill>
                <a:latin typeface="Arial"/>
              </a:rPr>
              <a:t>Towards adaptive B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33BA-7F19-44A8-8FB2-E15E498B73F8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D11C4-5A5B-4877-81B5-24F54A143AB3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Our Aim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Fine-grained modeling of BPs based on varying </a:t>
            </a:r>
            <a:r>
              <a:rPr b="0" lang="en-CA" sz="2500" spc="-1" strike="noStrike">
                <a:solidFill>
                  <a:srgbClr val="0070c0"/>
                </a:solidFill>
                <a:latin typeface="Arial"/>
              </a:rPr>
              <a:t>environment characteristic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t run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raceability to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figuration of BPs based on current business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Specified at high level in user-oriented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Support for BP adaptation based on dynamically changing domain propert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BP adaptation based on BAM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3B6F-F8FB-4EE8-A1EB-B655A6787324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BP Reconfiguration/Adapt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6840" y="1473120"/>
            <a:ext cx="4970520" cy="465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669999"/>
                </a:solidFill>
                <a:latin typeface="Arial"/>
              </a:rPr>
              <a:t>Adaptation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is done through </a:t>
            </a:r>
            <a:r>
              <a:rPr b="0" lang="en-CA" sz="2600" spc="-1" strike="noStrike">
                <a:solidFill>
                  <a:srgbClr val="7e9ce8"/>
                </a:solidFill>
                <a:latin typeface="Arial"/>
              </a:rPr>
              <a:t>BP reconfiguration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CA" sz="2600" spc="-1" strike="noStrike" u="sng">
                <a:solidFill>
                  <a:srgbClr val="000000"/>
                </a:solidFill>
                <a:uFillTx/>
                <a:latin typeface="Arial"/>
              </a:rPr>
              <a:t>switching to a better alternative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ff0000"/>
                </a:solidFill>
                <a:latin typeface="Arial"/>
              </a:rPr>
              <a:t>Anticipated adap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Analysis and reconfiguration is done at </a:t>
            </a:r>
            <a:r>
              <a:rPr b="0" lang="en-CA" sz="2600" spc="-1" strike="noStrike">
                <a:solidFill>
                  <a:srgbClr val="7e9ce8"/>
                </a:solidFill>
                <a:latin typeface="Arial"/>
              </a:rPr>
              <a:t>high level in terms of goal model alternatives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Causes for reconfigura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Change in requirements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(e.g., business user prioriti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As a response to BP monito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ff0000"/>
                </a:solidFill>
                <a:latin typeface="Arial"/>
              </a:rPr>
              <a:t>Changing environment (contex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1" name="Object 2"/>
          <p:cNvGraphicFramePr/>
          <p:nvPr/>
        </p:nvGraphicFramePr>
        <p:xfrm>
          <a:off x="5576760" y="2303640"/>
          <a:ext cx="3451320" cy="28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6760" y="2303640"/>
                    <a:ext cx="3451320" cy="28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Adaptive BP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457200" y="1250640"/>
            <a:ext cx="82296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ust have measurable me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ead/lag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rom qualitative to quantitativ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Operationalization of soft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apping to metrics/K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oftgoal desired satisfaction levels =&gt; target values or r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an be done in the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ometimes needs to be exposed – e.g., customer satisf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Quanti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Qualitative is still useful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72C8-6F7F-49FC-8399-B3B7E43D23F1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42BC-BD46-4735-9AEE-82BA559B3EEA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BP Reconfigur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810" name="Object 2"/>
          <p:cNvGraphicFramePr/>
          <p:nvPr/>
        </p:nvGraphicFramePr>
        <p:xfrm>
          <a:off x="171360" y="1019160"/>
          <a:ext cx="7918560" cy="524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019160"/>
                    <a:ext cx="791856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2" name="Oval 10"/>
          <p:cNvSpPr/>
          <p:nvPr/>
        </p:nvSpPr>
        <p:spPr>
          <a:xfrm>
            <a:off x="1727280" y="1673280"/>
            <a:ext cx="495360" cy="495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3" name="Oval 11"/>
          <p:cNvSpPr/>
          <p:nvPr/>
        </p:nvSpPr>
        <p:spPr>
          <a:xfrm>
            <a:off x="3490920" y="2006640"/>
            <a:ext cx="495360" cy="495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4" name="Oval 12"/>
          <p:cNvSpPr/>
          <p:nvPr/>
        </p:nvSpPr>
        <p:spPr>
          <a:xfrm>
            <a:off x="7365960" y="2006640"/>
            <a:ext cx="495360" cy="495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5" name="Oval 13"/>
          <p:cNvSpPr/>
          <p:nvPr/>
        </p:nvSpPr>
        <p:spPr>
          <a:xfrm>
            <a:off x="5543640" y="2451240"/>
            <a:ext cx="495360" cy="495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6" name="Oval 14"/>
          <p:cNvSpPr/>
          <p:nvPr/>
        </p:nvSpPr>
        <p:spPr>
          <a:xfrm>
            <a:off x="5587920" y="3294000"/>
            <a:ext cx="495360" cy="495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7" name="Oval 15"/>
          <p:cNvSpPr/>
          <p:nvPr/>
        </p:nvSpPr>
        <p:spPr>
          <a:xfrm>
            <a:off x="7321680" y="4229280"/>
            <a:ext cx="495000" cy="495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8" name="Oval 16"/>
          <p:cNvSpPr/>
          <p:nvPr/>
        </p:nvSpPr>
        <p:spPr>
          <a:xfrm>
            <a:off x="5607000" y="5454720"/>
            <a:ext cx="495360" cy="495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9" name="Oval 17"/>
          <p:cNvSpPr/>
          <p:nvPr/>
        </p:nvSpPr>
        <p:spPr>
          <a:xfrm>
            <a:off x="1601640" y="5273640"/>
            <a:ext cx="495360" cy="495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0" name="Oval 18"/>
          <p:cNvSpPr/>
          <p:nvPr/>
        </p:nvSpPr>
        <p:spPr>
          <a:xfrm>
            <a:off x="3492360" y="3833640"/>
            <a:ext cx="495360" cy="495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6269-B2E6-4927-BAEA-583BD322380A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Current/Future 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Runtime optimization of B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From softgoals to metrics/KP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Runtime evaluation of BP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Context-based adaptation of B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Performance contex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7600" indent="-284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Contexts based on how well targets are being m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57600" indent="-284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Modeling mitigation techniqu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From contexts to B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Integration of preference-based, context-based, performance-based adap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78D9-A891-4E54-8CCE-CB9D16B5E23F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827" name="Picture 2" descr="ThankYou_Graphic_White"/>
          <p:cNvPicPr/>
          <p:nvPr/>
        </p:nvPicPr>
        <p:blipFill>
          <a:blip r:embed="rId1"/>
          <a:stretch/>
        </p:blipFill>
        <p:spPr>
          <a:xfrm>
            <a:off x="2319480" y="1895400"/>
            <a:ext cx="4429080" cy="2419560"/>
          </a:xfrm>
          <a:prstGeom prst="rect">
            <a:avLst/>
          </a:prstGeom>
          <a:ln w="0">
            <a:noFill/>
          </a:ln>
        </p:spPr>
      </p:pic>
      <p:sp>
        <p:nvSpPr>
          <p:cNvPr id="828" name="Text Box 3"/>
          <p:cNvSpPr/>
          <p:nvPr/>
        </p:nvSpPr>
        <p:spPr>
          <a:xfrm>
            <a:off x="3223440" y="4641840"/>
            <a:ext cx="26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lexei@cs.toronto.edu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Talk 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0000"/>
                </a:solidFill>
                <a:latin typeface="Arial"/>
              </a:rPr>
              <a:t>Requirements-driven configuration of B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Using contexts to capture domain variability and its effects on BP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Towards adaptive B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3F95-BAA6-42FC-8CF2-FFB9ABEC4893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66E5-85E3-4B81-8EDA-632F374E2737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tiv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60280" y="1206000"/>
            <a:ext cx="8623440" cy="510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 Business Process (BP) is seen as a collection of </a:t>
            </a:r>
            <a:r>
              <a:rPr b="0" lang="en-CA" sz="1800" spc="-1" strike="noStrike">
                <a:solidFill>
                  <a:srgbClr val="7e9ce8"/>
                </a:solidFill>
                <a:latin typeface="Arial"/>
              </a:rPr>
              <a:t>activities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that achieves a certain </a:t>
            </a:r>
            <a:r>
              <a:rPr b="0" lang="en-CA" sz="1800" spc="-1" strike="noStrike">
                <a:solidFill>
                  <a:srgbClr val="7e9ce8"/>
                </a:solidFill>
                <a:latin typeface="Arial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owever, BPs are usually represented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orkflows (e.g., BPMN), executable workflows (e.g., WS-BP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Can capture and analyze certain aspects of BPs, bu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roblems exi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urpose is rarely explicitly repres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orkflows do not usually capt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 choices in achieving the goals of 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 rationale for sequencing and other decisions, non-functional asp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Domain properties and how they influence the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ard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Select process configuration with desired quality characteristic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Configure a process based on the characteristics of the doma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Configure processes at high level, w/o extensive knowledge of modeling not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7e9ce8"/>
                </a:solidFill>
                <a:latin typeface="Arial"/>
                <a:ea typeface="Arial"/>
              </a:rPr>
              <a:t>Maintenance and adaptation are diffic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Supply Customer BP 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1841-D487-4889-BC1B-E69A94CF1097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621" name="Object 4"/>
          <p:cNvGraphicFramePr/>
          <p:nvPr/>
        </p:nvGraphicFramePr>
        <p:xfrm>
          <a:off x="2052720" y="1606680"/>
          <a:ext cx="6216480" cy="45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720" y="1606680"/>
                    <a:ext cx="621648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3" name="AutoShape 7"/>
          <p:cNvSpPr/>
          <p:nvPr/>
        </p:nvSpPr>
        <p:spPr>
          <a:xfrm>
            <a:off x="216000" y="5829480"/>
            <a:ext cx="1346040" cy="609480"/>
          </a:xfrm>
          <a:prstGeom prst="wedgeRoundRectCallout">
            <a:avLst>
              <a:gd name="adj1" fmla="val 114648"/>
              <a:gd name="adj2" fmla="val -70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Functional Goal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4" name="AutoShape 8"/>
          <p:cNvSpPr/>
          <p:nvPr/>
        </p:nvSpPr>
        <p:spPr>
          <a:xfrm>
            <a:off x="6300720" y="1606680"/>
            <a:ext cx="914400" cy="609480"/>
          </a:xfrm>
          <a:prstGeom prst="wedgeRoundRectCallout">
            <a:avLst>
              <a:gd name="adj1" fmla="val -148092"/>
              <a:gd name="adj2" fmla="val -9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Root Goal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5" name="AutoShape 9"/>
          <p:cNvSpPr/>
          <p:nvPr/>
        </p:nvSpPr>
        <p:spPr>
          <a:xfrm>
            <a:off x="162000" y="1873080"/>
            <a:ext cx="1512720" cy="609840"/>
          </a:xfrm>
          <a:prstGeom prst="wedgeRoundRectCallout">
            <a:avLst>
              <a:gd name="adj1" fmla="val 96379"/>
              <a:gd name="adj2" fmla="val -3854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Quality Goal (Softgoal)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6" name="AutoShape 10"/>
          <p:cNvSpPr/>
          <p:nvPr/>
        </p:nvSpPr>
        <p:spPr>
          <a:xfrm>
            <a:off x="162000" y="2817720"/>
            <a:ext cx="1562040" cy="647640"/>
          </a:xfrm>
          <a:prstGeom prst="wedgeRoundRectCallout">
            <a:avLst>
              <a:gd name="adj1" fmla="val 86888"/>
              <a:gd name="adj2" fmla="val -5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Softgoal Contribution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7" name="AutoShape 11"/>
          <p:cNvSpPr/>
          <p:nvPr/>
        </p:nvSpPr>
        <p:spPr>
          <a:xfrm>
            <a:off x="7812000" y="2089080"/>
            <a:ext cx="1081080" cy="1079640"/>
          </a:xfrm>
          <a:prstGeom prst="wedgeRoundRectCallout">
            <a:avLst>
              <a:gd name="adj1" fmla="val -133111"/>
              <a:gd name="adj2" fmla="val 469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Control Flow Annota-tions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8" name="AutoShape 14"/>
          <p:cNvSpPr/>
          <p:nvPr/>
        </p:nvSpPr>
        <p:spPr>
          <a:xfrm>
            <a:off x="216000" y="5029200"/>
            <a:ext cx="1346040" cy="609480"/>
          </a:xfrm>
          <a:prstGeom prst="wedgeRoundRectCallout">
            <a:avLst>
              <a:gd name="adj1" fmla="val 453203"/>
              <a:gd name="adj2" fmla="val -22786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Variation Point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9" name="Oval 16"/>
          <p:cNvSpPr/>
          <p:nvPr/>
        </p:nvSpPr>
        <p:spPr>
          <a:xfrm>
            <a:off x="2411280" y="2368440"/>
            <a:ext cx="360360" cy="2714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0" name="Oval 15"/>
          <p:cNvSpPr/>
          <p:nvPr/>
        </p:nvSpPr>
        <p:spPr>
          <a:xfrm>
            <a:off x="2185920" y="2638440"/>
            <a:ext cx="360360" cy="2714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1" name="Oval 17"/>
          <p:cNvSpPr/>
          <p:nvPr/>
        </p:nvSpPr>
        <p:spPr>
          <a:xfrm>
            <a:off x="4122720" y="5068800"/>
            <a:ext cx="944640" cy="314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2" name="Oval 18"/>
          <p:cNvSpPr/>
          <p:nvPr/>
        </p:nvSpPr>
        <p:spPr>
          <a:xfrm>
            <a:off x="6912000" y="3763800"/>
            <a:ext cx="944640" cy="314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3" name="Oval 19"/>
          <p:cNvSpPr/>
          <p:nvPr/>
        </p:nvSpPr>
        <p:spPr>
          <a:xfrm>
            <a:off x="2681280" y="2908440"/>
            <a:ext cx="944640" cy="314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4" name="Rectangle 25"/>
          <p:cNvSpPr/>
          <p:nvPr/>
        </p:nvSpPr>
        <p:spPr>
          <a:xfrm>
            <a:off x="260280" y="3606840"/>
            <a:ext cx="13492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330066"/>
                </a:solidFill>
                <a:latin typeface="Arial"/>
              </a:rPr>
              <a:t>Help ( + )</a:t>
            </a: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330066"/>
                </a:solidFill>
                <a:latin typeface="Arial"/>
              </a:rPr>
              <a:t>Make (++)</a:t>
            </a: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330066"/>
                </a:solidFill>
                <a:latin typeface="Arial"/>
              </a:rPr>
              <a:t>Hurt ( – )</a:t>
            </a: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330066"/>
                </a:solidFill>
                <a:latin typeface="Arial"/>
              </a:rPr>
              <a:t>Break (</a:t>
            </a:r>
            <a:r>
              <a:rPr b="1" lang="ru-RU" sz="1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CA" sz="14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ru-RU" sz="1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CA" sz="14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ru-RU" sz="1400" spc="-1" strike="noStrike">
                <a:solidFill>
                  <a:srgbClr val="330066"/>
                </a:solidFill>
                <a:latin typeface="Arial"/>
              </a:rPr>
              <a:t> )</a:t>
            </a: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467C2-81B2-429C-B6AC-5B731623E04A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Increasing Precision with Annot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31640" y="171756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Goal models do not capture enough information to be useful in semi-automatic generation of workfl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nnotations to increase prec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Annot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Control flow (sequence, concurrency, loops, conditio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External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Input/output can also be model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3399"/>
                </a:solidFill>
                <a:latin typeface="Arial"/>
              </a:rPr>
              <a:t>Annotations – capture domain properties, not design decision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6BFF-6B24-466F-9D50-9153680AAF54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Increasing Precision with Annot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643" name="Object 4"/>
          <p:cNvGraphicFramePr/>
          <p:nvPr/>
        </p:nvGraphicFramePr>
        <p:xfrm>
          <a:off x="1467000" y="1538280"/>
          <a:ext cx="6597360" cy="47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7000" y="1538280"/>
                    <a:ext cx="6597360" cy="47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Oval 6"/>
          <p:cNvSpPr/>
          <p:nvPr/>
        </p:nvSpPr>
        <p:spPr>
          <a:xfrm>
            <a:off x="3581280" y="3743280"/>
            <a:ext cx="126072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6" name="Oval 7"/>
          <p:cNvSpPr/>
          <p:nvPr/>
        </p:nvSpPr>
        <p:spPr>
          <a:xfrm>
            <a:off x="5381640" y="3789360"/>
            <a:ext cx="108108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7" name="AutoShape 8"/>
          <p:cNvSpPr/>
          <p:nvPr/>
        </p:nvSpPr>
        <p:spPr>
          <a:xfrm>
            <a:off x="297000" y="3068640"/>
            <a:ext cx="1368360" cy="638280"/>
          </a:xfrm>
          <a:prstGeom prst="wedgeRoundRectCallout">
            <a:avLst>
              <a:gd name="adj1" fmla="val 205569"/>
              <a:gd name="adj2" fmla="val 87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8" name="Oval 10"/>
          <p:cNvSpPr/>
          <p:nvPr/>
        </p:nvSpPr>
        <p:spPr>
          <a:xfrm>
            <a:off x="1511280" y="5364000"/>
            <a:ext cx="1216080" cy="36036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9" name="AutoShape 9"/>
          <p:cNvSpPr/>
          <p:nvPr/>
        </p:nvSpPr>
        <p:spPr>
          <a:xfrm>
            <a:off x="206280" y="4373640"/>
            <a:ext cx="1368360" cy="728640"/>
          </a:xfrm>
          <a:prstGeom prst="wedgeRoundRectCallout">
            <a:avLst>
              <a:gd name="adj1" fmla="val 56148"/>
              <a:gd name="adj2" fmla="val 10817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External Events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0" name="Oval 13"/>
          <p:cNvSpPr/>
          <p:nvPr/>
        </p:nvSpPr>
        <p:spPr>
          <a:xfrm>
            <a:off x="4976640" y="3024360"/>
            <a:ext cx="1035360" cy="36180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1" name="AutoShape 12"/>
          <p:cNvSpPr/>
          <p:nvPr/>
        </p:nvSpPr>
        <p:spPr>
          <a:xfrm>
            <a:off x="6686640" y="1584360"/>
            <a:ext cx="1368360" cy="549360"/>
          </a:xfrm>
          <a:prstGeom prst="wedgeRoundRectCallout">
            <a:avLst>
              <a:gd name="adj1" fmla="val -112296"/>
              <a:gd name="adj2" fmla="val 2268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Loops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2" name="AutoShape 14"/>
          <p:cNvSpPr/>
          <p:nvPr/>
        </p:nvSpPr>
        <p:spPr>
          <a:xfrm>
            <a:off x="7316640" y="2259000"/>
            <a:ext cx="1576440" cy="549360"/>
          </a:xfrm>
          <a:prstGeom prst="wedgeRoundRectCallout">
            <a:avLst>
              <a:gd name="adj1" fmla="val -91087"/>
              <a:gd name="adj2" fmla="val 1179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3" name="Oval 15"/>
          <p:cNvSpPr/>
          <p:nvPr/>
        </p:nvSpPr>
        <p:spPr>
          <a:xfrm>
            <a:off x="6146640" y="2889360"/>
            <a:ext cx="765360" cy="40464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4" name="Oval 16"/>
          <p:cNvSpPr/>
          <p:nvPr/>
        </p:nvSpPr>
        <p:spPr>
          <a:xfrm>
            <a:off x="4616280" y="2124000"/>
            <a:ext cx="765360" cy="40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5" name="AutoShape 17"/>
          <p:cNvSpPr/>
          <p:nvPr/>
        </p:nvSpPr>
        <p:spPr>
          <a:xfrm>
            <a:off x="5651640" y="998640"/>
            <a:ext cx="1368360" cy="549000"/>
          </a:xfrm>
          <a:prstGeom prst="wedgeRoundRectCallout">
            <a:avLst>
              <a:gd name="adj1" fmla="val -89097"/>
              <a:gd name="adj2" fmla="val 180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D3C5-E87F-46D3-8080-828C0C0A89C4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High-Level BP Configur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075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Want to configure BPs based on preferences over </a:t>
            </a:r>
            <a:r>
              <a:rPr b="0" lang="en-CA" sz="2600" spc="-1" strike="noStrike">
                <a:solidFill>
                  <a:srgbClr val="7e9ce8"/>
                </a:solidFill>
                <a:latin typeface="Arial"/>
              </a:rPr>
              <a:t>quality attributes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(softgoal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Main mechanism to capture variability and to configure goal models: </a:t>
            </a:r>
            <a:r>
              <a:rPr b="0" i="1" lang="en-CA" sz="2600" spc="-1" strike="noStrike">
                <a:solidFill>
                  <a:srgbClr val="7e9ce8"/>
                </a:solidFill>
                <a:latin typeface="Arial"/>
              </a:rPr>
              <a:t>preference-driven</a:t>
            </a:r>
            <a:r>
              <a:rPr b="0" lang="en-CA" sz="2600" spc="-1" strike="noStrike">
                <a:solidFill>
                  <a:srgbClr val="7e9ce8"/>
                </a:solidFill>
                <a:latin typeface="Arial"/>
              </a:rPr>
              <a:t> OR decompositions 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CA" sz="2600" spc="-1" strike="noStrike">
                <a:solidFill>
                  <a:srgbClr val="7e9ce8"/>
                </a:solidFill>
                <a:latin typeface="Arial"/>
              </a:rPr>
              <a:t> </a:t>
            </a:r>
            <a:r>
              <a:rPr b="0" i="1" lang="en-CA" sz="2600" spc="-1" strike="noStrike">
                <a:solidFill>
                  <a:srgbClr val="7e9ce8"/>
                </a:solidFill>
                <a:latin typeface="Arial"/>
              </a:rPr>
              <a:t>Variation Poi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(vs. data-driven or event-driven process variatio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E.g., Ship Order: either Ship Standard or Ship Ex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lternatives achieve the same t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Difference in </a:t>
            </a:r>
            <a:r>
              <a:rPr b="0" lang="en-CA" sz="2200" spc="-1" strike="noStrike">
                <a:solidFill>
                  <a:srgbClr val="7e9ce8"/>
                </a:solidFill>
                <a:latin typeface="Arial"/>
              </a:rPr>
              <a:t>softgoal contrib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 u="sng">
                <a:solidFill>
                  <a:srgbClr val="ff3399"/>
                </a:solidFill>
                <a:uFillTx/>
                <a:latin typeface="Arial"/>
              </a:rPr>
              <a:t>Softgoals act as selection criteria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for choosing BP configu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22:38:40Z</dcterms:created>
  <dc:creator>AL</dc:creator>
  <dc:description/>
  <dc:language>en-US</dc:language>
  <cp:lastModifiedBy>Alexei Lapouchnian</cp:lastModifiedBy>
  <dcterms:modified xsi:type="dcterms:W3CDTF">2008-10-29T15:50:43Z</dcterms:modified>
  <cp:revision>250</cp:revision>
  <dc:subject/>
  <dc:title>Slide 1</dc:title>
</cp:coreProperties>
</file>